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A8B-8AA8-46FD-9DC9-A10267A4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A8D-A087-4FC3-ACA8-F814345F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C6D-9342-4F62-8DCA-D08C65A7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BB8-C040-4AD0-A74C-AB9FD326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E9C0-FB1A-4535-BEF0-F8239370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F27E-C758-44FB-BBD7-776A4452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10C4-3B83-4F3F-8F61-323A3A2B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4C15-CE82-40BA-895F-98324C50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453E-D032-492F-946E-A153E518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952D-A40F-4EF3-A39D-A2DAB1F7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A4E4-8069-475D-A269-8701A6C6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C79-AE2C-4980-B1AC-CB4C401E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6162-ECD2-4BB5-89AF-FE9CC296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97CC-A420-4265-8A97-FEFC8D78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6C2B-36DB-4FC5-8A47-2AF25572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C465-89C3-4299-8114-80819F3E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0FFF-E284-41F0-9EE6-86F84D96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D16-F92D-447B-91B6-DCFB6C87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3F8-C453-4ACF-A54F-E73317EC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EFC-FE06-402B-8F97-BA1D154A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B1D-C8ED-4816-A5A0-3D99CA6D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5BC-1622-4A2E-950E-0629DE79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502-44F7-4DB0-9351-4418CC0A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91F-C0BA-48AB-BB09-BB84E2F3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4B04-ECF5-4C15-A535-32E944AFA9E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FECD-1967-422D-ACD5-7FA96AA08FA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естры милосердия в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Содержимое 3" descr="1307327.jpg"/>
          <p:cNvPicPr/>
          <p:nvPr/>
        </p:nvPicPr>
        <p:blipFill>
          <a:blip r:embed="rId1"/>
          <a:stretch/>
        </p:blipFill>
        <p:spPr>
          <a:xfrm>
            <a:off x="2666880" y="24192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ервая русская сестра милосердия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аша Севастопольская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кой ее изобразил художник Ф. А. Рубо на полотне панорамы «Оборона Севастополя 1854-1855 гг.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Содержимое 4" descr="tr_6929.jpg"/>
          <p:cNvPicPr/>
          <p:nvPr/>
        </p:nvPicPr>
        <p:blipFill>
          <a:blip r:embed="rId1"/>
          <a:stretch/>
        </p:blipFill>
        <p:spPr>
          <a:xfrm>
            <a:off x="1214280" y="2071800"/>
            <a:ext cx="6748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лоренс Найтингейл , английская сестра милосердия, и высшая награда для сестер милосердия ее имени, учрежденная в 1912 году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Содержимое 4" descr="Флоренс Найтингейл.jpg"/>
          <p:cNvPicPr/>
          <p:nvPr/>
        </p:nvPicPr>
        <p:blipFill>
          <a:blip r:embed="rId1"/>
          <a:stretch/>
        </p:blipFill>
        <p:spPr>
          <a:xfrm>
            <a:off x="928800" y="1743120"/>
            <a:ext cx="2928960" cy="446400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5" descr="1912 высшая награда.jpg"/>
          <p:cNvPicPr/>
          <p:nvPr/>
        </p:nvPicPr>
        <p:blipFill>
          <a:blip r:embed="rId2"/>
          <a:stretch/>
        </p:blipFill>
        <p:spPr>
          <a:xfrm>
            <a:off x="5572080" y="2714760"/>
            <a:ext cx="316548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частие в движении милосердия вызвало широкий общественный резонанс. История сохранила имена женщин, бескорыстно посвятивших себя служению на этом поприще. Это княгиня Н.Шаховская с дочерьми, княгиня Н.Трубецкая, Е. Новосильцева, П. Розен и другие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6760" y="59288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талья Шахов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Содержимое 6" descr="Княгиня Наталья Борисовна Шаховская.jpg"/>
          <p:cNvPicPr/>
          <p:nvPr/>
        </p:nvPicPr>
        <p:blipFill>
          <a:blip r:embed="rId1"/>
          <a:stretch/>
        </p:blipFill>
        <p:spPr>
          <a:xfrm>
            <a:off x="928800" y="2214720"/>
            <a:ext cx="2500200" cy="3563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1920" y="5643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сковья Роз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Содержимое 7" descr="прсковья розен.jpg"/>
          <p:cNvPicPr/>
          <p:nvPr/>
        </p:nvPicPr>
        <p:blipFill>
          <a:blip r:embed="rId2"/>
          <a:stretch/>
        </p:blipFill>
        <p:spPr>
          <a:xfrm>
            <a:off x="5857920" y="2357280"/>
            <a:ext cx="28112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естры милосердия принимали участие во всех войнах второй половины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XIX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толетия. Они самоотверженно трудились в госпиталях, на перевязочных пунктах, на передов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Содержимое 3" descr="767677330[1].jpg"/>
          <p:cNvPicPr/>
          <p:nvPr/>
        </p:nvPicPr>
        <p:blipFill>
          <a:blip r:embed="rId1"/>
          <a:stretch/>
        </p:blipFill>
        <p:spPr>
          <a:xfrm>
            <a:off x="1571760" y="1785960"/>
            <a:ext cx="5978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440" y="4812120"/>
            <a:ext cx="5486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Рисунок 4" descr="сестры крестовоздвиженской общины с пироговым.JPG"/>
          <p:cNvPicPr/>
          <p:nvPr/>
        </p:nvPicPr>
        <p:blipFill>
          <a:blip r:embed="rId1"/>
          <a:srcRect l="0" t="928" r="0" b="92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28880" y="4857840"/>
            <a:ext cx="56433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1913 году в России в 109 общинах работали 3442 сестры милосерд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началу Первой мировой войны(1914), только в госпиталях их насчитывалось около 20 ты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 годы Первой мировой войны императрица Александра Федоровна со своими дочерьми Ольгой ,Татьяной, Марией и Анастасией тоже стали сестрами милосерд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Содержимое 4" descr="1-922[1].jpg"/>
          <p:cNvPicPr/>
          <p:nvPr/>
        </p:nvPicPr>
        <p:blipFill>
          <a:blip r:embed="rId1"/>
          <a:stretch/>
        </p:blipFill>
        <p:spPr>
          <a:xfrm>
            <a:off x="357120" y="1571760"/>
            <a:ext cx="3301920" cy="504180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5" descr="1[1].jpg"/>
          <p:cNvPicPr/>
          <p:nvPr/>
        </p:nvPicPr>
        <p:blipFill>
          <a:blip r:embed="rId2"/>
          <a:stretch/>
        </p:blipFill>
        <p:spPr>
          <a:xfrm>
            <a:off x="4286160" y="2143080"/>
            <a:ext cx="45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вгустейшие особы ассистировали при операциях, дежурили сиделками у постелей раненых, выполняли любую работу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Содержимое 5" descr="24792566_86[1].jpg"/>
          <p:cNvPicPr/>
          <p:nvPr/>
        </p:nvPicPr>
        <p:blipFill>
          <a:blip r:embed="rId1"/>
          <a:stretch/>
        </p:blipFill>
        <p:spPr>
          <a:xfrm>
            <a:off x="4890960" y="1500120"/>
            <a:ext cx="4253040" cy="329580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7" descr="4050[1].jpg"/>
          <p:cNvPicPr/>
          <p:nvPr/>
        </p:nvPicPr>
        <p:blipFill>
          <a:blip r:embed="rId2"/>
          <a:stretch/>
        </p:blipFill>
        <p:spPr>
          <a:xfrm>
            <a:off x="357120" y="3000240"/>
            <a:ext cx="4357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естрички Великой Отечественной войны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Содержимое 4" descr="1205337613_okazanie_pervojj_medicinskojj_pomoshhi.[1].jpg"/>
          <p:cNvPicPr/>
          <p:nvPr/>
        </p:nvPicPr>
        <p:blipFill>
          <a:blip r:embed="rId1"/>
          <a:stretch/>
        </p:blipFill>
        <p:spPr>
          <a:xfrm>
            <a:off x="357120" y="1428840"/>
            <a:ext cx="4038840" cy="277488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5" descr="7413c4cc17da[1].jpg"/>
          <p:cNvPicPr/>
          <p:nvPr/>
        </p:nvPicPr>
        <p:blipFill>
          <a:blip r:embed="rId2"/>
          <a:stretch/>
        </p:blipFill>
        <p:spPr>
          <a:xfrm>
            <a:off x="1428840" y="4500720"/>
            <a:ext cx="4038480" cy="2092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Владелец\Desktop\сестры милосердия\4_1[1].jpg"/>
          <p:cNvPicPr/>
          <p:nvPr/>
        </p:nvPicPr>
        <p:blipFill>
          <a:blip r:embed="rId3"/>
          <a:stretch/>
        </p:blipFill>
        <p:spPr>
          <a:xfrm>
            <a:off x="6072120" y="1571760"/>
            <a:ext cx="264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естры милосердия наших дн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Содержимое 6" descr="_MG_8531_5[1].jpg"/>
          <p:cNvPicPr/>
          <p:nvPr/>
        </p:nvPicPr>
        <p:blipFill>
          <a:blip r:embed="rId1"/>
          <a:stretch/>
        </p:blipFill>
        <p:spPr>
          <a:xfrm>
            <a:off x="938160" y="1600200"/>
            <a:ext cx="3076560" cy="217188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8" descr="0904034m[1].jpg"/>
          <p:cNvPicPr/>
          <p:nvPr/>
        </p:nvPicPr>
        <p:blipFill>
          <a:blip r:embed="rId2"/>
          <a:stretch/>
        </p:blipFill>
        <p:spPr>
          <a:xfrm>
            <a:off x="5159520" y="1600200"/>
            <a:ext cx="3016080" cy="217188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7" descr="12[1].jpg"/>
          <p:cNvPicPr/>
          <p:nvPr/>
        </p:nvPicPr>
        <p:blipFill>
          <a:blip r:embed="rId3"/>
          <a:stretch/>
        </p:blipFill>
        <p:spPr>
          <a:xfrm>
            <a:off x="928800" y="4071960"/>
            <a:ext cx="307188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9" descr="mnogo_raznyh_prev[1].jpg"/>
          <p:cNvPicPr/>
          <p:nvPr/>
        </p:nvPicPr>
        <p:blipFill>
          <a:blip r:embed="rId4"/>
          <a:stretch/>
        </p:blipFill>
        <p:spPr>
          <a:xfrm>
            <a:off x="5072040" y="4000680"/>
            <a:ext cx="3279960" cy="22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токи благотворительности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 ноября 1796 г. Император Павел Петрович передал под попечительство жены Марии Федоровны Воспитательное обще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смерти императрицы, Никола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отмечая ее заслуги, 14 ноября 1828 г.  учредил особый Мариинский знак отличия за беспорочную службу на поприще благотворитель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Императрица Мария Федоровна"/>
          <p:cNvPicPr/>
          <p:nvPr/>
        </p:nvPicPr>
        <p:blipFill>
          <a:blip r:embed="rId1"/>
          <a:stretch/>
        </p:blipFill>
        <p:spPr>
          <a:xfrm>
            <a:off x="5003640" y="1413000"/>
            <a:ext cx="345780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чало движения сестер милосерд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шей стране начало движению сестер милосердия положили великая княжна Александра Николаевна и принцесса Терезия Ольденбургская, которые в 1844 году основали в Петербурге Свято-Троицкую общин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оскве первая такая община была организована во время эпидемии холеры 1848 года; организовали ее княгиня Софья Щербатова и знаменитый врач Федор Га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нее выделилась группа сестер, которые организовали общину «Утоли моя печал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нно воспитанницы этих общин были теми, кто отправился помогать защитникам Севастополя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и их участии в Петербурге и Москве возникли первые общины сестер милосерд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5643360"/>
            <a:ext cx="37861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нцесса Терезия Ольденбург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Содержимое 6" descr="Терезия Ольденбургская.jpg"/>
          <p:cNvPicPr/>
          <p:nvPr/>
        </p:nvPicPr>
        <p:blipFill>
          <a:blip r:embed="rId1"/>
          <a:stretch/>
        </p:blipFill>
        <p:spPr>
          <a:xfrm>
            <a:off x="714240" y="1643040"/>
            <a:ext cx="3184560" cy="3951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43200" y="5643720"/>
            <a:ext cx="5500800" cy="92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сковский врач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ааз Ф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Содержимое 7" descr="Ф.П. Гааз.jpg"/>
          <p:cNvPicPr/>
          <p:nvPr/>
        </p:nvPicPr>
        <p:blipFill>
          <a:blip r:embed="rId2"/>
          <a:stretch/>
        </p:blipFill>
        <p:spPr>
          <a:xfrm>
            <a:off x="5929200" y="1643040"/>
            <a:ext cx="24703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илосердие на вой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392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ми в мире женщинами, которые добровольно и организованно отправились на фронт для оказания помощи раненым воинам, были сестры милосердия московской Никольской обите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8" descr="воспитаници Никольской обители"/>
          <p:cNvPicPr/>
          <p:nvPr/>
        </p:nvPicPr>
        <p:blipFill>
          <a:blip r:embed="rId1"/>
          <a:stretch/>
        </p:blipFill>
        <p:spPr>
          <a:xfrm>
            <a:off x="3786120" y="1643040"/>
            <a:ext cx="51483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728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 1854 г. Великая княгиня Елена Павловна учредила общину сестер милосердия,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4720" y="4005360"/>
            <a:ext cx="446400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торая называла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рестовоздвиженск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0" descr="Княжна Елена Павловна"/>
          <p:cNvPicPr/>
          <p:nvPr/>
        </p:nvPicPr>
        <p:blipFill>
          <a:blip r:embed="rId1"/>
          <a:stretch/>
        </p:blipFill>
        <p:spPr>
          <a:xfrm>
            <a:off x="539640" y="3213000"/>
            <a:ext cx="2719440" cy="336564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6" descr="37317[1].jpg"/>
          <p:cNvPicPr/>
          <p:nvPr/>
        </p:nvPicPr>
        <p:blipFill>
          <a:blip r:embed="rId2"/>
          <a:stretch/>
        </p:blipFill>
        <p:spPr>
          <a:xfrm>
            <a:off x="3857760" y="1074600"/>
            <a:ext cx="496224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42447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уководство и организационную деятельность осуществлял знаменитый врач, основоположник полевой хирургии Николай Пирог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пирогов"/>
          <p:cNvPicPr/>
          <p:nvPr/>
        </p:nvPicPr>
        <p:blipFill>
          <a:blip r:embed="rId1"/>
          <a:stretch/>
        </p:blipFill>
        <p:spPr>
          <a:xfrm>
            <a:off x="4643280" y="549360"/>
            <a:ext cx="43084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естры Крестовоздвиженской общины- участницы обороны Севастополя 1854-1855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г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8 из прибывших на фронт женщин были награждены медалью "За оборону Севастополя", среди них – Е. Бакунина, Е. Карцева, А. Стахович, Е.Хитрово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бакунина"/>
          <p:cNvPicPr/>
          <p:nvPr/>
        </p:nvPicPr>
        <p:blipFill>
          <a:blip r:embed="rId1"/>
          <a:stretch/>
        </p:blipFill>
        <p:spPr>
          <a:xfrm>
            <a:off x="179280" y="3429000"/>
            <a:ext cx="2125800" cy="2979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карцщва лиза петровнв"/>
          <p:cNvPicPr/>
          <p:nvPr/>
        </p:nvPicPr>
        <p:blipFill>
          <a:blip r:embed="rId2"/>
          <a:stretch/>
        </p:blipFill>
        <p:spPr>
          <a:xfrm>
            <a:off x="2395440" y="3429000"/>
            <a:ext cx="2100240" cy="2984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стахович александра петровна"/>
          <p:cNvPicPr/>
          <p:nvPr/>
        </p:nvPicPr>
        <p:blipFill>
          <a:blip r:embed="rId3"/>
          <a:stretch/>
        </p:blipFill>
        <p:spPr>
          <a:xfrm>
            <a:off x="4572000" y="3429000"/>
            <a:ext cx="2111400" cy="302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хитрово"/>
          <p:cNvPicPr/>
          <p:nvPr/>
        </p:nvPicPr>
        <p:blipFill>
          <a:blip r:embed="rId4"/>
          <a:stretch/>
        </p:blipFill>
        <p:spPr>
          <a:xfrm>
            <a:off x="6780240" y="3429000"/>
            <a:ext cx="19969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4" descr="крествоздвиж общ.jpg"/>
          <p:cNvPicPr/>
          <p:nvPr/>
        </p:nvPicPr>
        <p:blipFill>
          <a:blip r:embed="rId1"/>
          <a:srcRect l="5470" t="0" r="5470" b="0"/>
          <a:stretch/>
        </p:blipFill>
        <p:spPr>
          <a:xfrm>
            <a:off x="1643040" y="42876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57120" y="4572000"/>
            <a:ext cx="8072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120 сестер Крестовоздвиженской обители, которые работали в осажденном Севастополе, 17 погибли при исполнении служебных обязанностей, а баронесса Юлия Вревская умерла от тифа в полевом лазаре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5:35:57Z</dcterms:created>
  <dc:creator>Владелец</dc:creator>
  <dc:description/>
  <dc:language>en-US</dc:language>
  <cp:lastModifiedBy>Владелец</cp:lastModifiedBy>
  <dcterms:modified xsi:type="dcterms:W3CDTF">2010-01-29T19:04:45Z</dcterms:modified>
  <cp:revision>58</cp:revision>
  <dc:subject/>
  <dc:title>Слайд 1</dc:title>
</cp:coreProperties>
</file>